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31FC-08E2-4997-A702-BFB27E59C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A4BC-ED31-4221-A773-D686B4E21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BB72-2178-4746-B873-2A6751744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A1F9-BC00-435E-8028-72BC383CE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93563-F244-4629-9254-B6080511A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FA8C8-6C93-4A21-8863-3B2300462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88F9B-1520-419A-860F-D3990DEFA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EEE57-A99F-4DE5-80DE-FF39C5622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899E7-FA6A-4F8C-9C74-3B00E5F49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BBB2E-A5AD-4B70-B740-2DE5BCC80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ABA5E-636C-4191-B9AB-1C629EF5D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0466-7958-4937-B055-0753E2709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E8015-0F4D-487D-A1BB-93CE030F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6CA82-1E8D-4AF8-B526-3EAFD9788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F551C-C2ED-4E3C-9F6A-25B15C7EE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7B904-429A-45CE-BBC5-33029773A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C965B-E7ED-4155-B4D2-EEF15865E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5AC3-DDD7-4B01-B222-979706EC2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D964-45CA-4D9F-B7A8-85CA802EA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061B-E90D-432F-A3C7-A3EE61726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55C3-B212-45EB-AC9F-0720B02E7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4E6D-91E4-458D-A162-EC91BF25A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B292-7FA4-423F-BC19-287F087B1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9011-3190-4C07-B2EC-B106F9049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F16FE-8513-4B15-A1D8-B7FDEA10021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8E3A5-CD42-49B2-A156-FEF1CF46967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7989840" cy="188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Verdana"/>
              </a:rPr>
              <a:t>Desobediencia organizada y caída del Estado excluyent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Prof. Marco Moren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Argumen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920" y="1844280"/>
            <a:ext cx="83534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A fines del siglo XIX y en las primeras décadas del XX, quienes padecían la exclusión comenzaron, de distintas maneras, a alterar el orden creado por las oligarquía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6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6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cc0000"/>
                </a:solidFill>
                <a:latin typeface="Verdana"/>
              </a:rPr>
              <a:t>2.</a:t>
            </a: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Los “rotos” tenias razones: la exclusión ya no solo significaba dejarlos al margen de una realidad de privilegios, sino perjudicarlos y, a través del monopolio del Estado, darles sanción institucional, en todo el territorio, a las situaciones de miseria y explot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6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Argumen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cc0000"/>
                </a:solidFill>
                <a:latin typeface="Verdana"/>
              </a:rPr>
              <a:t>3.</a:t>
            </a:r>
            <a:r>
              <a:rPr b="0" lang="es-MX" sz="24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En la misma medida en que los “rotos”, a través de sus organizaciones y huelgas, cuando no por su simple presencia, comenzaron a hacerse cada vez más visibles y molestos en el orden que las oligarquías habían creado y querían preservar, fueron siendo brutalmente reprimid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a) La ilusión de la legitimid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1885 voto un 3,2 % de la población total; un 3,6 en 1888; un 8,6 en 1912 y un 4,4 en 1920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Este numero de votantes bastaba a las oligarquías de la época para suponer que su monopolio estatal era legitim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Verdana"/>
              </a:rPr>
              <a:t>b) Miseria, desobediencia y represió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844640"/>
            <a:ext cx="800100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En el Chile del cambio de siglo, la realidad social conocida y aceptada por las oligarquías se modificara significativament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En la década del 1920, la masividad de la organización obrera dejo en evidencia no solo que la represión era ya un mecanismo ineficaz, sino que también que la institucionalidad era insuficiente, y sobre todo, que el Estado ya no podía seguir operando sobre una matriz excluyent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22:22:02Z</dcterms:created>
  <dc:creator>mmorenop</dc:creator>
  <dc:description/>
  <dc:language>en-US</dc:language>
  <cp:lastModifiedBy>Clases</cp:lastModifiedBy>
  <dcterms:modified xsi:type="dcterms:W3CDTF">2010-05-31T14:27:23Z</dcterms:modified>
  <cp:revision>35</cp:revision>
  <dc:subject/>
  <dc:title>La compleja herencia del siglo XIX</dc:title>
</cp:coreProperties>
</file>